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D465-F465-4CD3-9B21-808CF518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609C-4836-4550-865E-6D9F806F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3D06-F6D3-4F98-898A-1B50AE35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91D3-1642-41F9-A282-B0BE93BE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9E66-9223-4332-99CF-A0A42D95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B72C-F1DA-4CC5-9CC4-CE9BF246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A15B-C46D-4A3A-9D6E-3FBFEFCD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40AE-E456-4FEB-9AB1-A26B4BA0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AB0A-E446-4D49-9F19-A4AC5881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4625-926D-4DE3-B409-18679D90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4175-2AD3-46DA-97CA-399B418E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6BFE-BAF4-4D5D-B85B-3B36A5FB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9B62-0022-4461-9C37-482E5F69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3545-8F2C-4C12-8B3E-D8EA7E7E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3E39-74BF-43E2-AA31-EB4DCE2A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15F4-338C-479C-8D40-B2D758F0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C171-74BD-43A7-96EF-79B10B5D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3E20-E85D-4A1C-8297-56B63F53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40A4-79FD-4C90-B405-187071FD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E1DD-07C0-4A14-861B-90247C6C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CCE3-E7F4-414C-B267-7A5D0BF2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8436-21AD-4DBE-9668-8838335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EA8D-00F5-4FEA-8C10-C2C65C54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A0D9-EFC0-4FC8-912B-72EE1E6F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D0EB-CE9C-4081-A756-D2B17210BEE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3B34-7CD1-4A19-8A0F-758E0B4A58E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387080"/>
            <a:ext cx="11131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ще възпея на Исус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ната Му любов към м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Той на кръс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зле пострад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съм аз освобод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й, о, пей за тоз Спасите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я дълг Той е заплатил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 със кръвта Си е изкупи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греха освобод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3266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ще да хваля тоз Спасител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е надвил на сата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ъй е станал Победите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 греховете и смър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3266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й, о, пей за тоз Спасите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я дълг Той е заплатил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 със кръвта Си е изкупи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греха освобод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3266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оя Спас ще аз да пе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кръста как за мен умр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 във блаженство да живе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ружно със Него във небе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3266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й, о, пей за тоз Спасите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я дълг Той е заплатил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 със кръвта Си е изкупи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греха освобод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3-02T17:00:16Z</dcterms:modified>
  <cp:revision>43</cp:revision>
  <dc:subject/>
  <dc:title>Slide 1</dc:title>
</cp:coreProperties>
</file>